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10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3C95-DE89-4CE2-94E2-F68AD424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66D8-837B-46CC-B88B-E31C7FD3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5AE3-2838-4F19-8C66-F4F8ABE3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6D84-CF48-4B5E-9326-4208A353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3B98-5DFB-4EE5-8BE8-DDF08C14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B5B9-CAC7-4909-9323-BD01518C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2715-46C7-4B53-A5C6-295B7A43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9907-0F4B-423F-B93E-DF826A74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D40D-D5E8-4F7A-A3CA-35E8B435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C417-9D57-4952-873E-0F7365A8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0559-FC69-4CA7-8F1B-F957F471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7C46-DB2A-4070-A14A-BD1F4890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FF21-2B08-4698-A420-C45A873AD3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250920" y="404640"/>
            <a:ext cx="835164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Прямоугольник 15"/>
          <p:cNvGrpSpPr/>
          <p:nvPr/>
        </p:nvGrpSpPr>
        <p:grpSpPr>
          <a:xfrm>
            <a:off x="835200" y="914400"/>
            <a:ext cx="7765560" cy="7590960"/>
            <a:chOff x="835200" y="914400"/>
            <a:chExt cx="7765560" cy="7590960"/>
          </a:xfrm>
        </p:grpSpPr>
        <p:pic>
          <p:nvPicPr>
            <p:cNvPr id="43" name="Прямоугольник 15" descr=""/>
            <p:cNvPicPr/>
            <p:nvPr/>
          </p:nvPicPr>
          <p:blipFill>
            <a:blip r:embed="rId1"/>
            <a:stretch/>
          </p:blipFill>
          <p:spPr>
            <a:xfrm>
              <a:off x="835200" y="915480"/>
              <a:ext cx="7764480" cy="53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837720" y="914400"/>
              <a:ext cx="7763040" cy="75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99"/>
                  </a:solidFill>
                  <a:latin typeface="Monotype Corsiva"/>
                </a:rPr>
                <a:t>ГБПОУ РХ «Черногорский горно-строительный техникум»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Monotype Corsiva"/>
                </a:rPr>
                <a:t>Час куратора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Monotype Corsiva"/>
                </a:rPr>
                <a:t>Больше никакой войны!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Monotype Corsiva"/>
                </a:rPr>
                <a:t>(21 сентября-Международный день Мира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                                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                                                   </a:t>
              </a:r>
              <a:r>
                <a:rPr b="1" lang="ru-RU" sz="3200" spc="-1" strike="noStrike">
                  <a:solidFill>
                    <a:srgbClr val="333399"/>
                  </a:solidFill>
                  <a:latin typeface="Monotype Corsiva"/>
                </a:rPr>
                <a:t>Группа: 1-ОР-2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3399"/>
                  </a:solidFill>
                  <a:latin typeface="Monotype Corsiva"/>
                </a:rPr>
                <a:t>                                      </a:t>
              </a:r>
              <a:r>
                <a:rPr b="1" lang="ru-RU" sz="3200" spc="-1" strike="noStrike">
                  <a:solidFill>
                    <a:srgbClr val="333399"/>
                  </a:solidFill>
                  <a:latin typeface="Monotype Corsiva"/>
                </a:rPr>
                <a:t>Куратор: Ишимова Н.В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3399"/>
                  </a:solidFill>
                  <a:latin typeface="Monotype Corsiva"/>
                </a:rPr>
                <a:t>                                              </a:t>
              </a:r>
              <a:r>
                <a:rPr b="1" lang="ru-RU" sz="3200" spc="-1" strike="noStrike">
                  <a:solidFill>
                    <a:srgbClr val="333399"/>
                  </a:solidFill>
                  <a:latin typeface="Monotype Corsiva"/>
                </a:rPr>
                <a:t>Дата: 21.09.2023 г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152280" y="23760"/>
            <a:ext cx="8915400" cy="56484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152280" y="565776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c1c1d"/>
                </a:solidFill>
                <a:latin typeface="Arial"/>
              </a:rPr>
              <a:t>Предательство начинается в высоких, важных кабинетах вождей, президентов – они предают миллионы людей, посылая их на смерть, и заканчивается здесь, на обрыве оврага, где фронтовики подставляют друг друга. Давно уже нет того поединка, когда глава государства брал копье, щит и впереди своего народа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Саманта См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4738680" cy="4845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257440" y="533160"/>
            <a:ext cx="349236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аманта Смит – американская школьница из штата Мен, написавшая письмо генеральному секретарю ЦК КПСС Ю.В. Андропову в самый разгар холодной войны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4643640" cy="5562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аманта получила письмо  от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Ю.В Андроп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70528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аманта Смит в Артеке среди советских пион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488360" cy="50166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амятник Саманте Смит в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. Огасте (штат Мэн, СШ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581640" cy="4779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3571920" cy="4767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4"/>
          <p:cNvSpPr/>
          <p:nvPr/>
        </p:nvSpPr>
        <p:spPr>
          <a:xfrm>
            <a:off x="285840" y="457200"/>
            <a:ext cx="8858160" cy="5814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сланники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http://gorod.tomsk.ru/i/u/2657/uander.jpg"/>
          <p:cNvPicPr/>
          <p:nvPr/>
        </p:nvPicPr>
        <p:blipFill>
          <a:blip r:embed="rId1"/>
          <a:stretch/>
        </p:blipFill>
        <p:spPr>
          <a:xfrm>
            <a:off x="5791320" y="914400"/>
            <a:ext cx="2906640" cy="36259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7"/>
          <p:cNvSpPr/>
          <p:nvPr/>
        </p:nvSpPr>
        <p:spPr>
          <a:xfrm>
            <a:off x="533520" y="1000080"/>
            <a:ext cx="5252760" cy="30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w Cen MT"/>
              </a:rPr>
              <a:t>Стиви  Уандер </a:t>
            </a:r>
            <a:r>
              <a:rPr b="1" lang="ru-RU" sz="1900" spc="-1" strike="noStrike">
                <a:solidFill>
                  <a:srgbClr val="002060"/>
                </a:solidFill>
                <a:latin typeface="Tw Cen MT"/>
              </a:rPr>
              <a:t>– американский музыкант, слепой от рождения, записал свыше 30 сольных альбомов и был удостоен 25 премий Грэмм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Tw Cen MT"/>
              </a:rPr>
              <a:t>Он активно участвовал в кампании против апартеида в Южной Африке и сам был организатором многочисленных акций в поддержку инвалидов, детейиз бедных семей, больных СПИДом, раком и диабетом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П.Коэльо назначен Посланником мира, ООН, Коэльо, Посланник мира, Представительство ООН в Украине"/>
          <p:cNvPicPr/>
          <p:nvPr/>
        </p:nvPicPr>
        <p:blipFill>
          <a:blip r:embed="rId2"/>
          <a:stretch/>
        </p:blipFill>
        <p:spPr>
          <a:xfrm>
            <a:off x="457200" y="4114800"/>
            <a:ext cx="3809880" cy="23814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3"/>
          <p:cNvSpPr/>
          <p:nvPr/>
        </p:nvSpPr>
        <p:spPr>
          <a:xfrm>
            <a:off x="4419720" y="4572000"/>
            <a:ext cx="43052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w Cen MT"/>
              </a:rPr>
              <a:t>Пауло Коэльо </a:t>
            </a:r>
            <a:r>
              <a:rPr b="1" lang="ru-RU" sz="1800" spc="-1" strike="noStrike">
                <a:solidFill>
                  <a:srgbClr val="002060"/>
                </a:solidFill>
                <a:latin typeface="Tw Cen MT"/>
              </a:rPr>
              <a:t>- бразильский пис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w Cen MT"/>
              </a:rPr>
              <a:t>Воплощает идеи путем своего труда в ЮНЕСКО в качестве Специального консультанта по межкультурному диалогу и духовного сбли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5029200" y="1066680"/>
            <a:ext cx="3610080" cy="525636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3"/>
          <p:cNvSpPr/>
          <p:nvPr/>
        </p:nvSpPr>
        <p:spPr>
          <a:xfrm>
            <a:off x="838080" y="1143000"/>
            <a:ext cx="389124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1982 году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 своей резолюции Генеральная Ассамблея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ОН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провозгласила Международный день мира (International Day of Peace) как день всеобщего прекращения огня и отказа от насил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142920" y="185760"/>
            <a:ext cx="8858160" cy="5814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21 сентября - Международный день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4357800"/>
            <a:ext cx="8305920" cy="21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Arial"/>
              </a:rPr>
              <a:t>Мир</a:t>
            </a:r>
            <a:r>
              <a:rPr b="1" lang="ru-RU" sz="2100" spc="-1" strike="noStrike">
                <a:solidFill>
                  <a:srgbClr val="002060"/>
                </a:solidFill>
                <a:latin typeface="Arial"/>
                <a:ea typeface="Arial"/>
              </a:rPr>
              <a:t> - это основа стабильной жизни. Это основа развития страны и всех ее граждан. Мир дает нам множество благ и обеспечивает реализацию прав. В мирное время мы можем учиться и работать, развиваться в материальном, духовном и нравственном плане. Не испытывать материальных неудобств и создавать надежные семь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285840" y="380880"/>
            <a:ext cx="8858160" cy="5814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21 сентября - Международный день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http://www.impactlab.com/wp-content/uploads/2008/11/sq-globe.JPG"/>
          <p:cNvPicPr/>
          <p:nvPr/>
        </p:nvPicPr>
        <p:blipFill>
          <a:blip r:embed="rId1"/>
          <a:stretch/>
        </p:blipFill>
        <p:spPr>
          <a:xfrm>
            <a:off x="3200400" y="1143000"/>
            <a:ext cx="3198960" cy="296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038480" y="1428480"/>
            <a:ext cx="4572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Международное гуманитарное право – способствует защите прав человека во всем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inpath.ru/files/Photos/notes/37.jpg"/>
          <p:cNvPicPr/>
          <p:nvPr/>
        </p:nvPicPr>
        <p:blipFill>
          <a:blip r:embed="rId1"/>
          <a:stretch/>
        </p:blipFill>
        <p:spPr>
          <a:xfrm>
            <a:off x="533520" y="1371600"/>
            <a:ext cx="3429000" cy="5148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3" descr="http://www.proza.ru/pics/2010/02/25/110.jpg"/>
          <p:cNvPicPr/>
          <p:nvPr/>
        </p:nvPicPr>
        <p:blipFill>
          <a:blip r:embed="rId1"/>
          <a:stretch/>
        </p:blipFill>
        <p:spPr>
          <a:xfrm>
            <a:off x="457200" y="3276720"/>
            <a:ext cx="4584600" cy="327636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457200" y="1571760"/>
            <a:ext cx="830592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«Мы никогда не избавимся от врагов,  отвечая ненавистью на ненавис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избавиться от врагов можно, только избавившись от враждебност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Arial"/>
              </a:rPr>
              <a:t>Мартин Лютер К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00720" y="1856880"/>
            <a:ext cx="4262400" cy="26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2060"/>
                </a:solidFill>
                <a:latin typeface="Arial"/>
              </a:rPr>
              <a:t>«Нет такой политической алхимии, посредством которой можно было бы получить золотое поведение из свинцовых инстинктов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2060"/>
                </a:solidFill>
                <a:latin typeface="Arial"/>
              </a:rPr>
              <a:t>Г.Спенсер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ombine1"/>
          <p:cNvPicPr/>
          <p:nvPr/>
        </p:nvPicPr>
        <p:blipFill>
          <a:blip r:embed="rId1"/>
          <a:stretch/>
        </p:blipFill>
        <p:spPr>
          <a:xfrm>
            <a:off x="457200" y="1905120"/>
            <a:ext cx="4070520" cy="45813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1148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«Начали (делегаты Конгресса лиги мира и свободы, 1867) с того, что для достижения мира на земле нужно истребить христианскую веру. Большие государства уничтожить и поделить на маленькие; все прочь, чтоб всё было общее по приказу. И главное огонь и меч – и после того как всё истребится, то тогда, по их мнению, и будет мир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Ф.М.Достое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3" descr="http://i33.fastpic.ru/big/2014/0331/06/15bc7862ff746e35fbecb8fa69cd7c06.jpg"/>
          <p:cNvPicPr/>
          <p:nvPr/>
        </p:nvPicPr>
        <p:blipFill>
          <a:blip r:embed="rId1"/>
          <a:stretch/>
        </p:blipFill>
        <p:spPr>
          <a:xfrm>
            <a:off x="4800600" y="3276720"/>
            <a:ext cx="3886200" cy="3122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5"/>
          <p:cNvSpPr/>
          <p:nvPr/>
        </p:nvSpPr>
        <p:spPr>
          <a:xfrm>
            <a:off x="473040" y="3048120"/>
            <a:ext cx="8410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w Cen MT"/>
              </a:rPr>
              <a:t>В романе ярко выражены антимилитаристские краски, показано бессилие человека перед бесконечным и бездушным миром зла и насилия, страданий и бессмысленных жертв (представление об отсутствии какой-либо свободы воли перед лицом раз и навсегда данной истор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w Cen MT"/>
              </a:rPr>
              <a:t>Стереотипы «настоящих мужчин», «крутых парней», «героев», обычно встречающиеся в книгах про войну, у Воннегута извращены до нелепости и представлены жёсткой пародией в образах пленных англичан и Роланда Вири, вызывающих кривую усмешку. Нет деления на «наших» и «врагов» — немцы показаны такими же обыкновенными замученными людьми, невероятно уставшими от войны, как и американ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3619440" y="76320"/>
            <a:ext cx="190512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ila serditch</dc:creator>
  <dc:description/>
  <dc:language>en-US</dc:language>
  <cp:lastModifiedBy>Пользователь</cp:lastModifiedBy>
  <dcterms:modified xsi:type="dcterms:W3CDTF">2023-09-20T04:13:42Z</dcterms:modified>
  <cp:revision>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